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Agnus%20Deiw.wav" ContentType="audio/x-wav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D45E-EE9E-4DC4-B3E2-8274C36B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DCC5-AF0E-4E4B-9B87-60EBC8D3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8B98-7CBC-4184-84E8-2FEE6D55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88FD-0CE0-4844-A8A6-6B87D553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4449-B984-47C8-91F1-EA2B9937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C21A-8541-439F-B12D-B406104C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6E7-A11E-47C9-92E4-66ED1A3D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9DAC-9519-47A4-AF4C-4FB3DF4C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8E8-2171-4023-A692-20959E4A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DAD4-B8CE-4A28-A61E-B16BC427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BEE6-6CBB-4877-B02F-5D6321E6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9375-2080-4711-8E9C-16DF6545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3D5C-DE0A-45C5-B14F-75281D285E3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Agnus%20Deiw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/indexceramcat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645080" y="0"/>
            <a:ext cx="4319280" cy="6858000"/>
            <a:chOff x="4645080" y="0"/>
            <a:chExt cx="4319280" cy="6858000"/>
          </a:xfrm>
        </p:grpSpPr>
        <p:sp>
          <p:nvSpPr>
            <p:cNvPr id="42" name=""/>
            <p:cNvSpPr/>
            <p:nvPr/>
          </p:nvSpPr>
          <p:spPr>
            <a:xfrm rot="16200000">
              <a:off x="3375720" y="1269360"/>
              <a:ext cx="6858000" cy="4319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5221080" y="0"/>
              <a:ext cx="31672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468360" y="3933720"/>
            <a:ext cx="3743280" cy="1800360"/>
          </a:xfrm>
          <a:prstGeom prst="rect">
            <a:avLst/>
          </a:prstGeom>
          <a:solidFill>
            <a:srgbClr val="613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jemos que nos  penetre el “Agnus Dei” del Requiem de Fauré (5’3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00000" y="549360"/>
            <a:ext cx="3456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7683b"/>
                    </a:gs>
                    <a:gs pos="100000">
                      <a:srgbClr val="402341"/>
                    </a:gs>
                  </a:gsLst>
                  <a:lin ang="5400000"/>
                </a:gradFill>
                <a:latin typeface="Arial Black"/>
              </a:rPr>
              <a:t>DOMING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7683b"/>
                  </a:gs>
                  <a:gs pos="100000">
                    <a:srgbClr val="402341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50920" y="6093000"/>
            <a:ext cx="6621120" cy="483840"/>
            <a:chOff x="250920" y="6093000"/>
            <a:chExt cx="6621120" cy="483840"/>
          </a:xfrm>
        </p:grpSpPr>
        <p:sp>
          <p:nvSpPr>
            <p:cNvPr id="47" name=""/>
            <p:cNvSpPr/>
            <p:nvPr/>
          </p:nvSpPr>
          <p:spPr>
            <a:xfrm>
              <a:off x="1206360" y="6093000"/>
              <a:ext cx="5665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onjas de Sant  Benet de Montserr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250920" y="6093000"/>
              <a:ext cx="955440" cy="48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378720" y="2349360"/>
            <a:ext cx="38811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6000" spc="-1" strike="noStrike">
                <a:solidFill>
                  <a:srgbClr val="f7683b"/>
                </a:solidFill>
                <a:latin typeface="Arial Unicode MS"/>
              </a:rPr>
              <a:t>2 AÑO c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4" name="Agnus%20Dei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836640"/>
            <a:ext cx="8137440" cy="596052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Juan dio testimonio diciendo: "He contemplado al </a:t>
            </a:r>
            <a:r>
              <a:rPr b="1" lang="en-US" sz="5500" spc="-1" strike="noStrike">
                <a:solidFill>
                  <a:srgbClr val="f27ee4"/>
                </a:solidFill>
                <a:latin typeface="Arial Unicode MS"/>
                <a:ea typeface="Arial Unicode MS"/>
              </a:rPr>
              <a:t>Espíritu</a:t>
            </a:r>
            <a:r>
              <a:rPr b="1" lang="en-U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que bajaba del cielo como una paloma, y se posó sobre él.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6021360"/>
            <a:ext cx="1509840" cy="638280"/>
          </a:xfrm>
          <a:prstGeom prst="rightArrow">
            <a:avLst>
              <a:gd name="adj1" fmla="val 50000"/>
              <a:gd name="adj2" fmla="val 59137"/>
            </a:avLst>
          </a:prstGeom>
          <a:solidFill>
            <a:srgbClr val="bb430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 rot="211800">
            <a:off x="0" y="0"/>
            <a:ext cx="4824360" cy="4381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924360" y="3141720"/>
            <a:ext cx="5219640" cy="4208760"/>
          </a:xfrm>
          <a:prstGeom prst="rect">
            <a:avLst/>
          </a:prstGeom>
          <a:solidFill>
            <a:srgbClr val="5f33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 Unicode MS"/>
              </a:rPr>
              <a:t>El Espíritu de Dios, viniendo hacia Ti, se ha puesto también encima 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Arial Unicode MS"/>
              </a:rPr>
              <a:t>de nosotro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620640"/>
            <a:ext cx="258912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Llenas nuestras vid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11280" y="765000"/>
            <a:ext cx="7993080" cy="55803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o no lo conocía, pero el que me envió a bautizar con agua me dijo: "Aquél sobre quien veas bajar el Espíritu y posarse sobre él, ése es el que ha de bautizar con </a:t>
            </a:r>
            <a:r>
              <a:rPr b="1" lang="en-US" sz="4500" spc="-1" strike="noStrike">
                <a:solidFill>
                  <a:srgbClr val="f27ee4"/>
                </a:solidFill>
                <a:latin typeface="Arial Unicode MS"/>
                <a:ea typeface="Arial Unicode MS"/>
              </a:rPr>
              <a:t>Espíritu Santo</a:t>
            </a:r>
            <a:r>
              <a:rPr b="1" lang="en-U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"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6021360"/>
            <a:ext cx="1509840" cy="638280"/>
          </a:xfrm>
          <a:prstGeom prst="rightArrow">
            <a:avLst>
              <a:gd name="adj1" fmla="val 50000"/>
              <a:gd name="adj2" fmla="val 59137"/>
            </a:avLst>
          </a:prstGeom>
          <a:solidFill>
            <a:srgbClr val="bb430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124000" y="1125360"/>
            <a:ext cx="6659640" cy="4718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260280"/>
            <a:ext cx="259236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Dejemos lugar al Espírit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950080"/>
            <a:ext cx="8893080" cy="688320"/>
          </a:xfrm>
          <a:prstGeom prst="rect">
            <a:avLst/>
          </a:prstGeom>
          <a:solidFill>
            <a:srgbClr val="5f33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ffffff"/>
                </a:solidFill>
                <a:latin typeface="Arial"/>
              </a:rPr>
              <a:t>Un bautizo Pentecostal, UNIVERSA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332000" y="1125360"/>
            <a:ext cx="7056360" cy="46659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yo lo he visto, y he dado testimonio de que éste es el </a:t>
            </a:r>
            <a:r>
              <a:rPr b="1" lang="en-US" sz="6000" spc="-1" strike="noStrike">
                <a:solidFill>
                  <a:srgbClr val="f27ee4"/>
                </a:solidFill>
                <a:latin typeface="Arial Unicode MS"/>
                <a:ea typeface="Arial Unicode MS"/>
              </a:rPr>
              <a:t>Hijo de Dios</a:t>
            </a: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"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67280" y="6021360"/>
            <a:ext cx="1509840" cy="638280"/>
          </a:xfrm>
          <a:prstGeom prst="rightArrow">
            <a:avLst>
              <a:gd name="adj1" fmla="val 50000"/>
              <a:gd name="adj2" fmla="val 59137"/>
            </a:avLst>
          </a:prstGeom>
          <a:solidFill>
            <a:srgbClr val="bb430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250920" y="0"/>
            <a:ext cx="4681440" cy="6858000"/>
            <a:chOff x="250920" y="0"/>
            <a:chExt cx="4681440" cy="6858000"/>
          </a:xfrm>
        </p:grpSpPr>
        <p:sp>
          <p:nvSpPr>
            <p:cNvPr id="82" name=""/>
            <p:cNvSpPr/>
            <p:nvPr/>
          </p:nvSpPr>
          <p:spPr>
            <a:xfrm>
              <a:off x="250920" y="0"/>
              <a:ext cx="4681440" cy="685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611280" y="0"/>
              <a:ext cx="39592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5076720" y="333360"/>
            <a:ext cx="3673440" cy="3141000"/>
          </a:xfrm>
          <a:prstGeom prst="rect">
            <a:avLst/>
          </a:prstGeom>
          <a:solidFill>
            <a:srgbClr val="5f33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HIJO de nuestro Padre del cielo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3860640"/>
            <a:ext cx="3960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Si TODOS somos hijos, ¿por qué tantas pele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1476360" y="1197000"/>
            <a:ext cx="6553080" cy="4424760"/>
            <a:chOff x="1476360" y="1197000"/>
            <a:chExt cx="6553080" cy="4424760"/>
          </a:xfrm>
        </p:grpSpPr>
        <p:sp>
          <p:nvSpPr>
            <p:cNvPr id="87" name=""/>
            <p:cNvSpPr/>
            <p:nvPr/>
          </p:nvSpPr>
          <p:spPr>
            <a:xfrm>
              <a:off x="1476360" y="1197000"/>
              <a:ext cx="6553080" cy="4105080"/>
            </a:xfrm>
            <a:prstGeom prst="rect">
              <a:avLst/>
            </a:prstGeom>
            <a:gradFill rotWithShape="0">
              <a:gsLst>
                <a:gs pos="0">
                  <a:srgbClr val="d2530c"/>
                </a:gs>
                <a:gs pos="100000">
                  <a:srgbClr val="4827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08000" y="1413000"/>
              <a:ext cx="57596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Unicode MS"/>
                </a:rPr>
                <a:t>Señor, haz que con Tu Espíritu descubramos el valor de los pequeños actos de la vida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4653000"/>
            <a:ext cx="8028000" cy="1099800"/>
          </a:xfrm>
          <a:prstGeom prst="rect">
            <a:avLst/>
          </a:prstGeom>
          <a:gradFill rotWithShape="0">
            <a:gsLst>
              <a:gs pos="0">
                <a:srgbClr val="d959b4"/>
              </a:gs>
              <a:gs pos="100000">
                <a:srgbClr val="371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benedictinescat.com/Montserrat/indexceramcat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781360"/>
            <a:ext cx="9144000" cy="314136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A-El Cordero de Dios coge nuestro m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B-Podemos ser discípulos suy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C-Con Él compartimos el Vino mej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5157720"/>
            <a:ext cx="4498920" cy="1800360"/>
          </a:xfrm>
          <a:prstGeom prst="rect">
            <a:avLst/>
          </a:prstGeom>
          <a:solidFill>
            <a:srgbClr val="d2530c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A partir del Domingo III  tendremos el evangelio de Mateo durante todo el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00" y="549360"/>
            <a:ext cx="8967960" cy="1922400"/>
          </a:xfrm>
          <a:prstGeom prst="rect">
            <a:avLst/>
          </a:prstGeom>
          <a:solidFill>
            <a:srgbClr val="5f33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El domingo II empieza el CAMÍNO,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con el evangelio de Juan,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en los tres cic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907920"/>
            <a:ext cx="7993080" cy="5122440"/>
          </a:xfrm>
          <a:prstGeom prst="rect">
            <a:avLst/>
          </a:prstGeom>
          <a:gradFill rotWithShape="0">
            <a:gsLst>
              <a:gs pos="0">
                <a:srgbClr val="f7683b"/>
              </a:gs>
              <a:gs pos="100000">
                <a:srgbClr val="3b20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</a:rPr>
              <a:t>Hoy, presentación progresiva de Jesús: </a:t>
            </a:r>
            <a:br>
              <a:rPr sz="6000"/>
            </a:br>
            <a:r>
              <a:rPr b="1" lang="en-US" sz="5000" spc="-1" strike="noStrike">
                <a:solidFill>
                  <a:srgbClr val="ffffff"/>
                </a:solidFill>
                <a:latin typeface="Arial Unicode MS"/>
              </a:rPr>
              <a:t>Cordero, Preexistente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Arial Unicode MS"/>
              </a:rPr>
              <a:t>manifestado a la tierra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Arial Unicode MS"/>
              </a:rPr>
              <a:t>lleno del Espíritu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Arial Unicode MS"/>
              </a:rPr>
              <a:t>HIJO de Dios</a:t>
            </a:r>
            <a:r>
              <a:rPr b="1" lang="en-US" sz="6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55640" y="620640"/>
            <a:ext cx="7993080" cy="596052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 aquel tiempo, al ver Juan a Jesús que venía hacia él, exclamó: "Éste es el </a:t>
            </a:r>
            <a:r>
              <a:rPr b="1" lang="en-US" sz="5500" spc="-1" strike="noStrike">
                <a:solidFill>
                  <a:srgbClr val="f27ee4"/>
                </a:solidFill>
                <a:latin typeface="Arial Unicode MS"/>
                <a:ea typeface="Arial Unicode MS"/>
              </a:rPr>
              <a:t>Cordero</a:t>
            </a:r>
            <a:r>
              <a:rPr b="1" lang="en-U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de Dios, que quita el pecado del mundo.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6021360"/>
            <a:ext cx="1509840" cy="638280"/>
          </a:xfrm>
          <a:prstGeom prst="rightArrow">
            <a:avLst>
              <a:gd name="adj1" fmla="val 50000"/>
              <a:gd name="adj2" fmla="val 59137"/>
            </a:avLst>
          </a:prstGeom>
          <a:solidFill>
            <a:srgbClr val="bb430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76720" y="1197000"/>
            <a:ext cx="5508360" cy="4132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4869000"/>
            <a:ext cx="4248000" cy="1785240"/>
          </a:xfrm>
          <a:prstGeom prst="rect">
            <a:avLst/>
          </a:prstGeom>
          <a:gradFill rotWithShape="0">
            <a:gsLst>
              <a:gs pos="0">
                <a:srgbClr val="d2530c"/>
              </a:gs>
              <a:gs pos="100000">
                <a:srgbClr val="331c3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l Cordero muere cargado con nuestro pecado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260280"/>
            <a:ext cx="302436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u sumisión nos sal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55640" y="333360"/>
            <a:ext cx="7883640" cy="64947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ste es aquel de quien yo dije: "Tras de mí viene un hombre que está por delante de mí, porque </a:t>
            </a:r>
            <a:r>
              <a:rPr b="1" lang="en-US" sz="6000" spc="-1" strike="noStrike">
                <a:solidFill>
                  <a:srgbClr val="f27ee4"/>
                </a:solidFill>
                <a:latin typeface="Arial Unicode MS"/>
                <a:ea typeface="Arial Unicode MS"/>
              </a:rPr>
              <a:t>existía</a:t>
            </a: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antes que yo.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6021360"/>
            <a:ext cx="1509840" cy="638280"/>
          </a:xfrm>
          <a:prstGeom prst="rightArrow">
            <a:avLst>
              <a:gd name="adj1" fmla="val 50000"/>
              <a:gd name="adj2" fmla="val 59137"/>
            </a:avLst>
          </a:prstGeom>
          <a:solidFill>
            <a:srgbClr val="bb430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5616720" cy="5364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19640" y="549360"/>
            <a:ext cx="3600360" cy="2837160"/>
          </a:xfrm>
          <a:prstGeom prst="rect">
            <a:avLst/>
          </a:prstGeom>
          <a:solidFill>
            <a:srgbClr val="8c4c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Me puedes sosten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porqué eres etern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6021360"/>
            <a:ext cx="6553440" cy="62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u eres el “yo” que me falta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360" y="765000"/>
            <a:ext cx="7993080" cy="55803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o no lo conocía, pero he salido a bautizar con agua, para que sea </a:t>
            </a:r>
            <a:r>
              <a:rPr b="1" lang="en-US" sz="6000" spc="-1" strike="noStrike">
                <a:solidFill>
                  <a:srgbClr val="f27ee4"/>
                </a:solidFill>
                <a:latin typeface="Arial Unicode MS"/>
                <a:ea typeface="Arial Unicode MS"/>
              </a:rPr>
              <a:t>manifestado a Israel</a:t>
            </a: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6021360"/>
            <a:ext cx="1509840" cy="638280"/>
          </a:xfrm>
          <a:prstGeom prst="rightArrow">
            <a:avLst>
              <a:gd name="adj1" fmla="val 50000"/>
              <a:gd name="adj2" fmla="val 59137"/>
            </a:avLst>
          </a:prstGeom>
          <a:solidFill>
            <a:srgbClr val="bb430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39528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9640" y="260280"/>
            <a:ext cx="4319640" cy="3141000"/>
          </a:xfrm>
          <a:prstGeom prst="rect">
            <a:avLst/>
          </a:prstGeom>
          <a:solidFill>
            <a:srgbClr val="5f33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Has venido a mí para darme lo mejor de Ti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4365720"/>
            <a:ext cx="352728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iero hacer este mismo Cami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.</cp:lastModifiedBy>
  <dcterms:modified xsi:type="dcterms:W3CDTF">2008-01-13T17:52:46Z</dcterms:modified>
  <cp:revision>508</cp:revision>
  <dc:subject/>
  <dc:title>evangelio</dc:title>
</cp:coreProperties>
</file>