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esonemusw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B4D-0315-4B77-B391-A424A469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B20-6510-4F5A-8277-338D5EC3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254-5C23-48B6-A804-3BBF8F33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C8E-2906-41E4-897C-0426410E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7E3-18DC-42ED-AAFC-73E12DED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86C-11F1-4392-A19B-F2185B5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AC3-3C34-4F99-B053-0BF5EAE2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F93-0ABA-4D39-AFD5-22DC377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3AA-9056-49BD-8D5C-A2A85904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A7A-2085-40A9-836A-CC3B513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1EB-BFF4-4DE5-928F-2091C4B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F3D-C6F5-4571-80EF-A6B8419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3BD4-A8A4-4DA7-9B74-C1CC6308B204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sonemus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lmsievangeli.net/" TargetMode="External"/><Relationship Id="rId2" Type="http://schemas.openxmlformats.org/officeDocument/2006/relationships/hyperlink" Target="http://salmsievangeli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8880" y="6335640"/>
            <a:ext cx="216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brera ( Oson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76320"/>
            <a:ext cx="2743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80417"/>
                </a:solidFill>
                <a:latin typeface="Comic Sans MS"/>
              </a:rPr>
              <a:t> </a:t>
            </a:r>
            <a:r>
              <a:rPr b="1" i="1" lang="ca-ES" sz="3500" spc="-1" strike="noStrike">
                <a:solidFill>
                  <a:srgbClr val="e80417"/>
                </a:solidFill>
                <a:latin typeface="Comic Sans MS"/>
              </a:rPr>
              <a:t>Ciclo</a:t>
            </a:r>
            <a:r>
              <a:rPr b="1" lang="ca-ES" sz="3500" spc="-1" strike="noStrike">
                <a:solidFill>
                  <a:srgbClr val="e80417"/>
                </a:solidFill>
                <a:latin typeface="Comic Sans MS"/>
              </a:rPr>
              <a:t> A</a:t>
            </a:r>
            <a:r>
              <a:rPr b="1" lang="ca-ES" sz="4400" spc="-1" strike="noStrike">
                <a:solidFill>
                  <a:srgbClr val="e80417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52640"/>
            <a:ext cx="8839080" cy="14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e80417"/>
                </a:solidFill>
                <a:latin typeface="Comic Sans MS"/>
              </a:rPr>
              <a:t>Segundo Domin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e80417"/>
                </a:solidFill>
                <a:latin typeface="Comic Sans MS"/>
              </a:rPr>
              <a:t>Tiempo 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3240" y="3141720"/>
            <a:ext cx="458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e80417"/>
                </a:solidFill>
                <a:latin typeface="Comic Sans MS"/>
              </a:rPr>
              <a:t>20 de enero de 200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724280"/>
            <a:ext cx="450036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80417"/>
                </a:solidFill>
                <a:latin typeface="Comic Sans MS"/>
              </a:rPr>
              <a:t> </a:t>
            </a:r>
            <a:r>
              <a:rPr b="0" lang="ca-ES" sz="4400" spc="-1" strike="noStrike">
                <a:solidFill>
                  <a:srgbClr val="e80417"/>
                </a:solidFill>
                <a:latin typeface="Comic Sans MS"/>
              </a:rPr>
              <a:t>Música: “</a:t>
            </a:r>
            <a:r>
              <a:rPr b="0" i="1" lang="ca-ES" sz="3800" spc="-1" strike="noStrike">
                <a:solidFill>
                  <a:srgbClr val="e80417"/>
                </a:solidFill>
                <a:latin typeface="Comic Sans MS"/>
              </a:rPr>
              <a:t>Ressoni el Nadal” sXI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Resonemu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d1"/>
            </a:gs>
            <a:gs pos="100000">
              <a:srgbClr val="030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48000" y="1484280"/>
            <a:ext cx="228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ICIO</a:t>
            </a:r>
            <a:r>
              <a:rPr b="0" lang="ca-E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72428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ffffff"/>
                </a:solidFill>
                <a:latin typeface="Comic Sans MS"/>
              </a:rPr>
              <a:t>Cuando veas una buena persona, procura imitarla; cuando veas una de mala, examínate a ti mismo.                                                                                   </a:t>
            </a:r>
            <a:r>
              <a:rPr b="0" i="1" lang="ca-ES" sz="2500" spc="-1" strike="noStrike">
                <a:solidFill>
                  <a:srgbClr val="bbe0e3"/>
                </a:solidFill>
                <a:latin typeface="Comic Sans MS"/>
              </a:rPr>
              <a:t>Confu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304920"/>
            <a:ext cx="8180640" cy="4848840"/>
          </a:xfrm>
          <a:prstGeom prst="rect">
            <a:avLst/>
          </a:prstGeom>
          <a:solidFill>
            <a:srgbClr val="e3e74b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49:3-6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e dijo: «Tú eres mi siervo, Israel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estoy orgulloso de ti»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cuchad ahora lo que dice el Señor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ya en el vientre me formó como siervo suyo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que le trajese a Jacob y le congregase a Israel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o soy valioso para el Señor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en Dios se halla mi fuerza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Él dice: «No sólo eres mi sierv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stablecer las tribus de Jacob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traer a los supervivientes de Israel,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o que te convierto en luz de las nacione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que mi salvación llegue hasta los confines de la tierra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021360"/>
            <a:ext cx="4127760" cy="459720"/>
          </a:xfrm>
          <a:prstGeom prst="rect">
            <a:avLst/>
          </a:prstGeom>
          <a:solidFill>
            <a:srgbClr val="e3e7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 haré luz de las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" y="6264360"/>
            <a:ext cx="287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 Nou (El Ber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880" y="0"/>
            <a:ext cx="3160080" cy="916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808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39</a:t>
            </a:r>
            <a:r>
              <a:rPr b="1" i="1" lang="ca-ES" sz="5400" spc="-1" strike="noStrike">
                <a:solidFill>
                  <a:srgbClr val="0013a8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66680"/>
            <a:ext cx="838188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se toda mi esperanza en el Señor;</a:t>
            </a:r>
            <a:br>
              <a:rPr sz="2800"/>
            </a:br>
            <a:r>
              <a:rPr b="1" i="1" lang="es-E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l se inclinó hacia mí y escuchó mi grito.</a:t>
            </a:r>
            <a:br>
              <a:rPr sz="2800"/>
            </a:br>
            <a:r>
              <a:rPr b="1" i="1" lang="es-E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so en mi boca un cantar nuevo, un himno a nuestro D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96560" y="4572000"/>
            <a:ext cx="4138560" cy="947160"/>
          </a:xfrm>
          <a:prstGeom prst="rect">
            <a:avLst/>
          </a:prstGeom>
          <a:solidFill>
            <a:srgbClr val="078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7920" y="6335640"/>
            <a:ext cx="246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Siurana (El Priora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93640"/>
            <a:ext cx="8686800" cy="137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50c"/>
                </a:solidFill>
                <a:latin typeface="Comic Sans MS"/>
                <a:ea typeface="Times New Roman"/>
              </a:rPr>
              <a:t>Tú no quieres sacrificios ni ofrendas, pero me abriste el oído; no pides holocaustos ni víctimas.</a:t>
            </a:r>
            <a:br>
              <a:rPr sz="2800"/>
            </a:br>
            <a:r>
              <a:rPr b="1" i="1" lang="es-ES" sz="2800" spc="-1" strike="noStrike">
                <a:solidFill>
                  <a:srgbClr val="07850c"/>
                </a:solidFill>
                <a:latin typeface="Comic Sans MS"/>
                <a:ea typeface="Times New Roman"/>
              </a:rPr>
              <a:t>Entonces yo digo: Aquí esto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9360" y="4114800"/>
            <a:ext cx="4138560" cy="947160"/>
          </a:xfrm>
          <a:prstGeom prst="rect">
            <a:avLst/>
          </a:prstGeom>
          <a:solidFill>
            <a:srgbClr val="078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8920" y="6335640"/>
            <a:ext cx="264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a Salut (La Garrot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5520"/>
            <a:ext cx="8686800" cy="137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 hacer lo que está escrito en el libro sobre mí.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o tu voluntad, Dios mío, llevo tu ley en mis entrañ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6160" y="4861080"/>
            <a:ext cx="413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3080" y="6335640"/>
            <a:ext cx="446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Madre de Dios de la Roca (Baix C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84120"/>
            <a:ext cx="8763120" cy="9471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e proclamado tu fidelidad en la gran asamblea;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ú sabes, Señor, que no me he ca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43920" y="4267080"/>
            <a:ext cx="4138560" cy="947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808d1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Aquí estoy, Señor,</a:t>
            </a:r>
            <a:br>
              <a:rPr sz="2800"/>
            </a:b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para hacer tu volun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260280"/>
            <a:ext cx="8610840" cy="5788440"/>
          </a:xfrm>
          <a:prstGeom prst="rect">
            <a:avLst/>
          </a:prstGeom>
          <a:solidFill>
            <a:srgbClr val="bdd6e1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1 Cor 1:1-3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Pablo, llamado por voluntad de Dios a ser apóstol de Cristo Jesús, y el hermano Sóstenes, a la Iglesia de Dios que está en Corinto.</a:t>
            </a:r>
            <a:br>
              <a:rPr sz="34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A vosotros que, consagrados por Cristo Jesús, habéis sido llamados a ser pueblo de Dios en unión con todos los que invocan en cualquier lugar el nombre de Jesucristo, que es Señor suyo y nuestro, gracia y paz de parte de Dios nuestro Padre y de Jesucristo, el Seño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7440" y="6165720"/>
            <a:ext cx="1264320" cy="459720"/>
          </a:xfrm>
          <a:prstGeom prst="rect">
            <a:avLst/>
          </a:prstGeom>
          <a:solidFill>
            <a:srgbClr val="bdd6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8680" y="6335640"/>
            <a:ext cx="4386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San Juan de las Abadesas (El Ripollè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0600" y="3170160"/>
            <a:ext cx="6221880" cy="20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1800" spc="-1" strike="noStrike">
                <a:solidFill>
                  <a:srgbClr val="9e0f07"/>
                </a:solidFill>
                <a:latin typeface="Comic Sans MS"/>
              </a:rPr>
              <a:t>ALELUYA   Jn 1: 14a,1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La Palabra se hizo carne </a:t>
            </a:r>
            <a:br>
              <a:rPr sz="2800"/>
            </a:b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y acampó entre nos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A cuantos la recibieron, </a:t>
            </a:r>
            <a:br>
              <a:rPr sz="2800"/>
            </a:br>
            <a:r>
              <a:rPr b="1" i="1" lang="ca-ES" sz="2800" spc="-1" strike="noStrike">
                <a:solidFill>
                  <a:srgbClr val="0808d1"/>
                </a:solidFill>
                <a:latin typeface="Comic Sans MS"/>
              </a:rPr>
              <a:t>les dio poder para ser hijos de D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240" y="6248520"/>
            <a:ext cx="2643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Ribera del río Jord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6280"/>
            <a:ext cx="8610480" cy="548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a0905"/>
                </a:solidFill>
                <a:latin typeface="Comic Sans MS"/>
              </a:rPr>
              <a:t>Juan 1: 29-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9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l día siguiente, Juan vio a Jesús, que se acercaba a él,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 dijo: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Éste es el cordero de Dios, que quita el pecado del mundo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0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 éste me refería yo cuando dije: «Detrás de mí viene uno que ha sido colocado delante de mí, porque existía antes que yo»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1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o mismo no lo conocía; pero la razón de mi bautismo era que él se manifestara a Israel.</a:t>
            </a:r>
            <a:br>
              <a:rPr sz="2400"/>
            </a:b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2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Juan prosiguió: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Yo he visto que el Espíritu bajaba desde el cielo como una paloma y permanecía sobre él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3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o mismo no lo conocía, pero el que me envió a bautizar con agua me dijo: «Aquél sobre quien veas que baja el Espíritu y permanece sobre él, ése es quien bautizará con Espíritu Santo».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4</a:t>
            </a:r>
            <a:r>
              <a:rPr b="0" i="1" lang="es-E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 como lo he visto, doy testimonio de que él es el Hijo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08:59:11Z</dcterms:created>
  <dc:creator>JOAN RAMIREZ</dc:creator>
  <dc:description/>
  <dc:language>en-US</dc:language>
  <cp:lastModifiedBy> </cp:lastModifiedBy>
  <dcterms:modified xsi:type="dcterms:W3CDTF">2008-01-12T19:04:09Z</dcterms:modified>
  <cp:revision>12</cp:revision>
  <dc:subject/>
  <dc:title>Presentación de PowerPoint</dc:title>
</cp:coreProperties>
</file>