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Orfe%C3%B3n%20Donostiarra%20PIE%20JESU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9874-2482-4425-BDAB-69447D35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23C7-FD58-49A0-BCDB-11D8118E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5A88-2752-4FDE-B7E6-63C2722B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5E25-9341-4075-8A83-129E3C34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FC8-D64F-465A-B531-F92008EF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5FE4-9E7D-4B35-AE97-B9E14892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456E-0126-4C12-B609-06800E9A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AC43-17BD-49B7-B36C-F271CDF8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0044-A58B-4B4D-A35A-39572BAF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8CC9-F41C-4524-B56E-40B23BDD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6BF-5044-4F26-B214-8D0C817C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6843-F2C1-4632-84DE-EEFBB9C3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9CB3-3684-41ED-84F1-7479159B3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Orfe&#243;n%20Donostiarra%20PIE%20JESU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09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a manifestación del Mesías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o se debe a especulaciones humanas,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ino a la iniciativa div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61722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Monotype Corsiva"/>
              </a:rPr>
              <a:t>Juan 1, 29-34. Segundo domingo Tiempo Ordinario –A-  20 de enero de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Orfe%C3%B3n%20Donostiarra%20PIE%20JESU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457200"/>
            <a:ext cx="883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ccecff"/>
                </a:solidFill>
                <a:latin typeface="Georgia"/>
              </a:rPr>
              <a:t>29</a:t>
            </a:r>
            <a:r>
              <a:rPr b="0" lang="en-US" sz="2000" spc="-1" strike="noStrike">
                <a:solidFill>
                  <a:srgbClr val="ccecff"/>
                </a:solidFill>
                <a:latin typeface="Georgia"/>
              </a:rPr>
              <a:t>Al día siguiente, Juan vio a Jesús, que se acercaba a él, y dijo: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Georgia"/>
              </a:rPr>
              <a:t>-Éste es el cordero de Dios, que quita el pecado del mundo. </a:t>
            </a:r>
            <a:r>
              <a:rPr b="0" lang="en-US" sz="2000" spc="-1" strike="noStrike" baseline="30000">
                <a:solidFill>
                  <a:srgbClr val="ccecff"/>
                </a:solidFill>
                <a:latin typeface="Georgia"/>
              </a:rPr>
              <a:t>30</a:t>
            </a:r>
            <a:r>
              <a:rPr b="0" lang="en-US" sz="2000" spc="-1" strike="noStrike">
                <a:solidFill>
                  <a:srgbClr val="ccecff"/>
                </a:solidFill>
                <a:latin typeface="Georgia"/>
              </a:rPr>
              <a:t>A éste me refería yo cuando dije: «Detrás de mí viene uno que ha sido colocado delante de mí, porque existía antes que yo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4267080"/>
            <a:ext cx="8991720" cy="256284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Juan comunica su maravilloso descubrimiento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Nos presenta una confesión de fe en Jesús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y el anuncio de la salvación universal, que Dios va a efectuar por medio de Jesús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El compromiso irrevocable de Jesús es: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liberar e identificarse con toda la humanidad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en un espíritu de solidaridad y compa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Seguirle es comprometerse en la lucha y el esfuerzo por quitar el pecado del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mundo: la injusticia, la opresión..., todo lo que destruye la felicidad de las perso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JESUS%20SUAVE%20primer%20plan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3808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Yo mismo no lo conocía; pero la razón de mi bautismo era que él se manifestara a Israel.</a:t>
            </a:r>
            <a:br>
              <a:rPr sz="2000"/>
            </a:br>
            <a:br>
              <a:rPr sz="1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419720"/>
            <a:ext cx="5334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omic Sans MS"/>
              </a:rPr>
              <a:t>Para tod@s, </a:t>
            </a:r>
            <a:br>
              <a:rPr sz="2000"/>
            </a:br>
            <a:r>
              <a:rPr b="0" lang="es-ES" sz="2000" spc="-1" strike="noStrike">
                <a:solidFill>
                  <a:srgbClr val="cc3300"/>
                </a:solidFill>
                <a:latin typeface="Comic Sans MS"/>
              </a:rPr>
              <a:t>el conocimiento de Jesús es progres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omic Sans MS"/>
              </a:rPr>
              <a:t>¿Quién es Jesús para mí?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omic Sans MS"/>
              </a:rPr>
              <a:t>¿Procuro que se conozca más a Jesús, </a:t>
            </a:r>
            <a:br>
              <a:rPr sz="2000"/>
            </a:br>
            <a:r>
              <a:rPr b="0" lang="es-ES" sz="2000" spc="-1" strike="noStrike">
                <a:solidFill>
                  <a:srgbClr val="cc3300"/>
                </a:solidFill>
                <a:latin typeface="Comic Sans MS"/>
              </a:rPr>
              <a:t>con mi vida y con mis palabras?.</a:t>
            </a:r>
            <a:br>
              <a:rPr sz="2000"/>
            </a:br>
            <a:r>
              <a:rPr b="0" lang="es-ES" sz="2000" spc="-1" strike="noStrike">
                <a:solidFill>
                  <a:srgbClr val="cc3300"/>
                </a:solidFill>
                <a:latin typeface="Comic Sans MS"/>
              </a:rPr>
              <a:t>¿Ayuda mi vida a alguien a creer en Dio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ondo-Paloma%20Nuve%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228600"/>
            <a:ext cx="8839080" cy="192348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32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Juan prosiguió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-Yo he visto que el Espíritu bajaba desde el cielo como una palom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y permanecía sobre él.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33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Yo mismo no lo conocía, pero el que me envió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 bautizar con agua me dijo: «Aquél sobre quien veas que baja el Espíritu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y permanece sobre él, ése es quien bautizará con Espíritu Santo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51055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Jesús es la fuente del Espíritu para la persona crey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¿Está mi bautismo “aguado” por la apatía, la rutina, la indiferencia...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¿Vivo mi bautismo de Espíritu y Fuego manifestando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el amor salvador y liberador de Di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LAVAR%20PIES%20chica" descr=""/>
          <p:cNvPicPr/>
          <p:nvPr/>
        </p:nvPicPr>
        <p:blipFill>
          <a:blip r:embed="rId1"/>
          <a:stretch/>
        </p:blipFill>
        <p:spPr>
          <a:xfrm>
            <a:off x="0" y="1752480"/>
            <a:ext cx="4191120" cy="2819520"/>
          </a:xfrm>
          <a:prstGeom prst="rect">
            <a:avLst/>
          </a:prstGeom>
          <a:ln w="0">
            <a:noFill/>
          </a:ln>
        </p:spPr>
      </p:pic>
      <p:pic>
        <p:nvPicPr>
          <p:cNvPr id="54" name="MULETAS%20COLGADAS" descr=""/>
          <p:cNvPicPr/>
          <p:nvPr/>
        </p:nvPicPr>
        <p:blipFill>
          <a:blip r:embed="rId2"/>
          <a:stretch/>
        </p:blipFill>
        <p:spPr>
          <a:xfrm>
            <a:off x="3733920" y="0"/>
            <a:ext cx="5410080" cy="4572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228600"/>
            <a:ext cx="312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Y como lo he visto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oy testimoni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e que él 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l Hijo de 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8991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Nuestra misión es 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</a:rPr>
              <a:t>ver y mirar</a:t>
            </a: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 a Jesús -</a:t>
            </a:r>
            <a:r>
              <a:rPr b="0" i="1" lang="es-ES_tradnl" sz="2000" spc="-1" strike="noStrike">
                <a:solidFill>
                  <a:srgbClr val="000099"/>
                </a:solidFill>
                <a:latin typeface="Comic Sans MS"/>
              </a:rPr>
              <a:t>“proclamar la buena nueva a los más pobres; devolver la vista a los ciegos; ayudar a andar a los cojos, liberar a los esclavos y anunciar el tiempo de gracia del Señor”</a:t>
            </a: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 - </a:t>
            </a:r>
            <a:br>
              <a:rPr sz="2000"/>
            </a:b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y dar testimonio, con nuestra forma de vida,</a:t>
            </a:r>
            <a:br>
              <a:rPr sz="2000"/>
            </a:b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 de su proyecto de salvación, no de conden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Cuando decimos que somos cristian@s </a:t>
            </a:r>
            <a:r>
              <a:rPr b="1" i="1" lang="es-ES" sz="2000" spc="-1" strike="noStrike">
                <a:solidFill>
                  <a:srgbClr val="000099"/>
                </a:solidFill>
                <a:latin typeface="Comic Sans MS"/>
              </a:rPr>
              <a:t>practicantes</a:t>
            </a: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,</a:t>
            </a:r>
            <a:br>
              <a:rPr sz="2000"/>
            </a:b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¿qué es lo que de verdad practicam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JESÚS%20cara%20cielo%20y%20reflejad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 rot="20837400">
            <a:off x="457200" y="685440"/>
            <a:ext cx="1504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ff9900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/>
                  </a:outerShdw>
                </a:effectLst>
                <a:latin typeface="Arial Black"/>
              </a:rPr>
              <a:t>JESÚS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ff9900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80880"/>
            <a:ext cx="56563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e damos gracias, Padre, por Jesús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u Hijo querido, por quien te hemos conocido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r quien sabemos vivir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r quien mantenemos la esperanza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r quien podemos vivir como herma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e damos gracias porque hace muchos año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que le conocemos, le queremos, le seguim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e damos gracias porque es para nosotro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uz para el camino, alimento para el trabajo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peranza para el futu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e damos gracias porque la fuerza de tu Espíritu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e hizo Pastor, Semilla, Agua, Fuego, Pan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e damos gracias porque la fuerza de tu Espíritu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e hizo pobre, humilde, valeroso, compas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e damos gracias porque gracias a É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nuestra vida de tierra se transfo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 nos hacemos Hijos, trabajamos en tu Reino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 sabemos esperar y perdonar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e damos gracias, Padre, por Jesucristo, tu Hijo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nuestro Señor. Amé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Monotype Corsiva"/>
              </a:rPr>
              <a:t>José Enrique Ruiz de Galarreta, S.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09:36:34Z</dcterms:created>
  <dc:creator> María Asun Gutiérrez</dc:creator>
  <dc:description/>
  <dc:language>en-US</dc:language>
  <cp:lastModifiedBy> </cp:lastModifiedBy>
  <dcterms:modified xsi:type="dcterms:W3CDTF">2008-01-13T10:35:37Z</dcterms:modified>
  <cp:revision>17</cp:revision>
  <dc:subject>portugalete53@wanadoo.es</dc:subject>
  <dc:title>Tiempo Ordinario II domingo -A-</dc:title>
</cp:coreProperties>
</file>